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306C-9E6F-4C0D-97F3-9025A63739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DF60-A1D9-4860-A58C-AFFB77D48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E6B6-3273-4653-AAB9-EAEBFF47C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9627-0A2A-4951-A597-7C0F3611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4F1D-DA8A-48B0-B22C-26EAE9EC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0C0B-5B9E-4A0A-8173-0FB93934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3BCD-4263-4E3B-A962-734D1FE7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38AE-B256-4791-B11A-2C55E101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1918-6548-4AEC-A6DE-66C39100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36C0-B570-4669-B26B-14F6B6D1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0EEB-E68C-487C-8FD3-664CA872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977-629F-4725-A94E-F8167CC1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CC8E-388C-472B-9A2C-FF9ECFFD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978F-6BC3-404F-92D2-AA31FACC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9FA3-2199-414E-BDF0-02F3E403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67ab"/>
                </a:solidFill>
                <a:latin typeface="Verdana"/>
              </a:rPr>
              <a:t>A SYSTE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132988631b.jpg"/>
          <p:cNvPicPr/>
          <p:nvPr/>
        </p:nvPicPr>
        <p:blipFill>
          <a:blip r:embed="rId4"/>
          <a:stretch/>
        </p:blipFill>
        <p:spPr>
          <a:xfrm>
            <a:off x="609480" y="1905120"/>
            <a:ext cx="3216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4250-10E8-4109-BB0B-0D3AC25E668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6AE1-7EFE-4C4E-A7BE-1FE167A90C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Wave Propa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765480" y="2558880"/>
            <a:ext cx="114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round- and Space-Wave Propag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pace-Wave Propag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 wave most widely used mode of antenna communications; limited to line-of-sight transmission distan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agated wa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rect from transmitting to receiving antenna; does not travel along groun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ky-Wave Propag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ky Wa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strike ionosphere, be refracted from it to ground, strike ground, be reflected back toward ionosphe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pp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fracting and reflecting action of ionosphere and groun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ky-Wave Propag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ky Wa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hod of long-distance transmis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onosp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ree layers designated from lowest level to highest level a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ky-Wave Propag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ffects of the Ionosphere on the Sky Wa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ical 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ghest frequency returned to Earth when transmitted vertically under given ionospheric condi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ical ang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ghest angle wave of specific frequency can be propagated and returned from ionosphe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ky-Wave Propag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ffects of the Ionosphere on the Sky Wa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imum usable frequency (MUF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ghest frequency returned to Earth at given dist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ky-Wave Propag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ffects of the Ionosphere on the Sky Wa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timum working 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consistent communication and best one to u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p z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signal will be hear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ky-Wave Propag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ffects of the Ionosphere on the Sky Wa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tions in signal strength that occur at receiver during time signal receiv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onospheric sto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use radio communications to become errati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opospheric sca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gnal aimed at troposphe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atellite Communic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tellite Communication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link (transmitt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biting satell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wnlink (receiv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link and downlin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rth station (ground base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atellite Communic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tellite Communication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pon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ectronic system performing reception, frequency translation, retransmiss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itude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rbital corrections on satelli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otpri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mited coverage are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atellite Communic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rbital Patter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bital patterns of satellites elliptica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gee (closest distance of orbit to Earth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ogee (farthest distance of orbit from Earth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ical to Electromagnetic Convers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ectrical energy fed into transmitting antenna must be converted to another form of energy for transmiss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nsmitting antenna converts its input electrical energy into electromagnetic energ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eiving antenna intercepts transmitted wave and converts it back into electrical energy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atellite Communic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rbital Patter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ostationary orbits use equatorial orb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ang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zimuth and elevation angles for Earth station antenna calculated so correct satellite can be see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atellite Communic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lobal Positioning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inpoint geographic location inform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PS satellites transmit position data signals; GPS receiver processes time to receive each o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atellite Communic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ultiplexing Techniqu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-division multiple access (FDM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me-division multiple access (TDM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atellite Communic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arth Station Distance to and from Satelli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ance from Earth station to satellite; estimate time delay for transmitted signal to travel from Earth to satellite and bac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3-2: Earth Satellite Measu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42840" y="308592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3-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Earth Satellite Measurement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5" descr="tab13_02.jpg"/>
          <p:cNvPicPr/>
          <p:nvPr/>
        </p:nvPicPr>
        <p:blipFill>
          <a:blip r:embed="rId1"/>
          <a:stretch/>
        </p:blipFill>
        <p:spPr>
          <a:xfrm>
            <a:off x="228600" y="1960560"/>
            <a:ext cx="8686800" cy="29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atellite Communic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arth Station Distance to and from Satelli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 division multiple access (CDM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y small aperture terminal (VSAT) fixed satellite communication syst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ltrasmall aperture terminal mobile satellite (MSAT) syst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atellite Communic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tellite Rad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.S. two satellite radio serv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XM and Siriu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M Satellite Radio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wo geostationary satellit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rius Satellite Radio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ree satellites in inclined orbi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gure of Merit and Satellite Link Budget Analysi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gure of merit (G/T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s performance measure for different satellite Earth st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rger the figure of merit (G/T), the better the Earth station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tellite link budg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es required C/N and signal level to satellite receiver will be met to ensure satellite receiver outputs signal that meets specific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gure of Merit and Satellite Link Budget Analysi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tellite Link Budget Calc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aluates quality of satellite link signal in terms of C/N; makes sure satellite link meets required C/N specific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d from both uplink budget and downlink budg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e-space path lo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53000" indent="-2214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ttenuation of RF signal as it propagates through space and Earth’s atmosphere to and from satelli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magnetic Wav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ectromagnetic fiel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ic field and magnetic fiel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dio-frequency interference (RF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sired radiation from radio transmitt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magnetic Wav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ectromagnetic interference (EM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i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xwell’s equ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uss’s law for electric fields, Gauss’s law for magnetic fields, Faraday’s law, Ampère-Maxwell law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magnetic Wav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avefro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rface joining all points of equal pha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otropic point sou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ectromagnetic wave radiates equally in all directions from point source in free space; spherical wavefront resul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otropic sou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diates equally in all direc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aves Not in Free Spac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f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o waves reflected by any mediu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le of incidence equal to angle of reflec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fra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waves pass from a medium of one density to another medium with a different densi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aves Not in Free Spac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ffra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ves traveling in straight paths bend around an obstac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round- and Space-Wave Propag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 modes of getting radio wave from transmitting to receiving antenna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nd wa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ce wa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y wa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tellite 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round- and Space-Wave Propag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ound-Wave Propag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nd wa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dio wave that travels along Earth’s surface; changes in terrain strong effec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enuation of ground waves directly related to surface impedance of Earth; function of conductivity and frequenc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way to communicate into ocean with submarin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47:34Z</dcterms:created>
  <dc:creator>Thomas Dunn</dc:creator>
  <dc:description/>
  <dc:language>en-US</dc:language>
  <cp:lastModifiedBy>Thomas Dunn</cp:lastModifiedBy>
  <dcterms:modified xsi:type="dcterms:W3CDTF">2013-05-14T05:47:23Z</dcterms:modified>
  <cp:revision>6</cp:revision>
  <dc:subject/>
  <dc:title>Slide 1</dc:title>
</cp:coreProperties>
</file>